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5.gif" ContentType="image/gif"/>
  <Override PartName="/ppt/media/image1.wmf" ContentType="image/x-wmf"/>
  <Override PartName="/ppt/media/image2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12.png" ContentType="image/png"/>
  <Override PartName="/ppt/media/image7.wmf" ContentType="image/x-wmf"/>
  <Override PartName="/ppt/media/image9.gif" ContentType="image/gif"/>
  <Override PartName="/ppt/media/image6.jpeg" ContentType="image/jpeg"/>
  <Override PartName="/ppt/media/image10.png" ContentType="image/png"/>
  <Override PartName="/ppt/media/image3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04D7-37AE-4AB7-9DD9-9D06CD2D42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деятельность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79F2-339D-4BFD-BF64-29421EFE63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юбом процессе передачи или обмене информацией существуют е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лучат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сама информация передается п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аналу связ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помощью сигналов: механических, электрических, тепловых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0AEA-7B9B-42BC-8903-D0DB57AF71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ующее устройство необходимо для преобразования информации в форму, удобную для пере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ующее устройство преобразует информацию в форму, понятную получа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F45B-1C4F-481D-9F82-1431F76FEE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ческий разум является совершенным инструментом познания окружающего мира. А память человека – великолепным устройством для хранения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 для долговременного хранения информации, ее накопления и передачи из поколения в поколение необходимо иметь возможность ее хранить не только в памяти  человека. Для этого используются носители информ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641E-50BB-4225-B1F7-6A114BAA23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оситель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атериальный объект, предназначенный для хранения и передачи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ая природа носителей информации может быть различной: молекулы ДНК, которые хранят генетическую информацию; бумага, на которой хранятся тексты и изображения; магнитная лента, на которой хранится звуковая информация; фото- и кинопленки, на которых хранится графическая информация; микросхемы памяти, магнитные и лазерные диски, на которых хранятся программы и данные в компьютере, и так дале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8CFC-42B4-4E4B-8573-6036F22BA7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4371-C625-4793-BA17-E034A9D992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о сохранить информацию недостаточно. Нужно уметь ею пользоваться. А для того чтобы воспользоваться нужной информацией в нужный момент необходимо уметь ее быстро най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E75B-BA06-4E20-B687-19F66AB083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иск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это извлечение храним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ручной и автоматизированный методы поиска информации в хранилищ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оиска информац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средственное наблюде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ние со специалистами по интересующему вас вопрос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ение соответствующей литератур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мотр теле-, видеопрограм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лушивание радиопередач и аудиокассет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в библиотеках, архива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ос к информационным системам, базам и банкам компьютерных данны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мето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жизни человека информация играет очень важную роль. От нее зависит принятие решений, влияющих на развитие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едотвращения потери информации разрабатываются различные механизмы ее защиты, которые используются на всех этапах работы с 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2D42-8FAF-46B5-A1DC-4DA1F7884E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защиты информации используют различные способ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доступ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граничение доступ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блирование каналов связ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птографическое преобразование информации с помощью шиф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6F6F-1C1C-48E3-B15A-6C3450275B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Шифро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зывают секретный код преобразования информации с целью ее защиты от незаконный пользов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ением и использованием шифров занимае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риптограф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465A-CBC8-4F8B-894A-56AC4DE958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ая деятельность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бор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работка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дача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ранение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иск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щита информ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3469-7317-4FE3-AD5F-171B6A2EE5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 деятельность человека связана с различными действиями с информацией, и помогают ему в этом разнообразные технические устр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ECF0-2901-47DB-A0AA-6AB46E69A8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и 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омогает людям получать информаци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думайте способ передачи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ажно защищать информаци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способы защиты вы зна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думайте шифр и зашифруйте фразу «Я учу информатик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4544-4D77-44DB-802A-63F6E7B394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е научное знание начинается тогда, когда мы можем оценить полученную информацию, сравнить ее, а значит измерить. Поэтому для получения недоступной обычным органам чувств информации широко используются специальные технические устр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26A4-CDD4-4C9C-87FF-01D1B65F12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084F-4CAC-4294-B6CE-516BECAB07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 из древних сооруж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ых для получения астрономической информации, находится в Англии недалеко от города Солсбери. Эт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оунхендж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«висячие камни». Он был построен примерно в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е до н.э. С помощью новейшим методов исследования было установлено, что каменные арки дают направления на крайние положения Солнца и Луны, а 56 белых лунок помогают предсказать время Солнечный и Лунных затм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0010-414D-40C8-9037-E4BBD14DEB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ая жизненный опыт, наблюдая мир вокруг себя, иначе говоря – накапливая все больше и больше информации, человек учится делать вы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ревности говорили, что человек познает мир с помощью органов чувств и осмысливает познанное разум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0E27-0593-454C-8D12-57705965EA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ходная информ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ормация, которую получает человек или устр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ыходная информ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ормация, которая получается после обработки человеком или устрой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2235-218E-4AD4-BFDE-EAE240A98E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человека не было бы возможно без обмена информ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давних времен люди из поколения в поколение передавали свои знания, извещали об опасности или передавали важную и срочную информацию, обменивались свед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A377-CC50-4AA8-87AE-B8F5FB8F25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A9D9-8278-4164-AE6F-16154450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0810-6723-49A7-869A-A17FD9B4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04C3-C46E-4A99-A895-EEF689BF5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A3D5-8ED8-404F-A95E-D0B2A4A3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C230-914C-4B10-89CD-9800BAC9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4405-CC70-4556-9F92-6EE92275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F5B2-2424-4F49-AE15-922DA3DD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AEC3-A05C-47DB-9BF5-41B6BFBC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E3F3-2094-4D0F-8B5F-A7700AA2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6ED1-05C0-4B2B-AA0E-55D49F56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0242-699E-424C-89EB-A5C3D98E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B236-748F-40BA-B286-EC3631F8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4F62-5DDC-4E33-8916-B2077A48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99F8-2BCB-46FE-B28D-6D3F68C6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FD82-3200-4FA7-8A3E-D8069919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A210-807A-43A8-96E8-CF7996ED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7960-679A-4143-9CDA-2F30CE23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6512-9C93-4A35-8AD4-D23FEE30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C211-3346-4313-B8ED-8E743E34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B0DD-613D-4799-BD6F-1A7B3E7D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4B53-8E15-462B-B9B6-7463B714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E508-AE39-4E0D-824C-962E4124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5EDA-A428-4646-B43C-125C40F7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4ADD-345C-4418-99D2-E9EA9D9E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526D-D92D-4EB5-AAC5-0147CD0C24D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Text Box 13"/>
          <p:cNvSpPr/>
          <p:nvPr/>
        </p:nvSpPr>
        <p:spPr>
          <a:xfrm>
            <a:off x="450720" y="93600"/>
            <a:ext cx="8137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орматика в школ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www.klyaksa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0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15"/>
          <p:cNvSpPr/>
          <p:nvPr/>
        </p:nvSpPr>
        <p:spPr>
          <a:xfrm>
            <a:off x="468360" y="404640"/>
            <a:ext cx="777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орматика в школ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www.klyaksa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ED47-2E94-4CCE-AB77-79FAFA7B53A0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0000"/>
                </a:solidFill>
                <a:latin typeface="Times New Roman"/>
              </a:rPr>
              <a:t>Информационная деятельность человека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ередач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3499920"/>
            <a:ext cx="8229600" cy="26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любом процессе передачи или обмене информацией существуют е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сточни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лучате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а сама информация передается по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аналу связ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помощью сигналов: механических, электрических, тепловых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1403280" y="2205000"/>
            <a:ext cx="6480360" cy="1079640"/>
            <a:chOff x="1403280" y="2205000"/>
            <a:chExt cx="6480360" cy="1079640"/>
          </a:xfrm>
        </p:grpSpPr>
        <p:sp>
          <p:nvSpPr>
            <p:cNvPr id="151" name="AutoShape 4"/>
            <p:cNvSpPr/>
            <p:nvPr/>
          </p:nvSpPr>
          <p:spPr>
            <a:xfrm>
              <a:off x="1403280" y="2347920"/>
              <a:ext cx="1871640" cy="7923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чни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AutoShape 6"/>
            <p:cNvSpPr/>
            <p:nvPr/>
          </p:nvSpPr>
          <p:spPr>
            <a:xfrm>
              <a:off x="6012000" y="227664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лучател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AutoShape 7"/>
            <p:cNvSpPr/>
            <p:nvPr/>
          </p:nvSpPr>
          <p:spPr>
            <a:xfrm>
              <a:off x="3564000" y="2205000"/>
              <a:ext cx="2305080" cy="1079640"/>
            </a:xfrm>
            <a:prstGeom prst="rightArrow">
              <a:avLst>
                <a:gd name="adj1" fmla="val 50000"/>
                <a:gd name="adj2" fmla="val 53376"/>
              </a:avLst>
            </a:prstGeom>
            <a:solidFill>
              <a:srgbClr val="66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cc00"/>
                  </a:solidFill>
                  <a:latin typeface="Times New Roman"/>
                </a:rPr>
                <a:t>Канал связ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Text Box 9"/>
          <p:cNvSpPr/>
          <p:nvPr/>
        </p:nvSpPr>
        <p:spPr>
          <a:xfrm>
            <a:off x="1116000" y="177336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дача информации от источника к получател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ередач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3212640"/>
            <a:ext cx="8229600" cy="29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дирующее устройство необходимо для преобразования информации в форму, удобную для передач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кодирующее устройство преобразует информацию в форму, понятную получател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12"/>
          <p:cNvGrpSpPr/>
          <p:nvPr/>
        </p:nvGrpSpPr>
        <p:grpSpPr>
          <a:xfrm>
            <a:off x="108000" y="2133720"/>
            <a:ext cx="8893080" cy="1077840"/>
            <a:chOff x="108000" y="2133720"/>
            <a:chExt cx="8893080" cy="1077840"/>
          </a:xfrm>
        </p:grpSpPr>
        <p:sp>
          <p:nvSpPr>
            <p:cNvPr id="159" name="AutoShape 5"/>
            <p:cNvSpPr/>
            <p:nvPr/>
          </p:nvSpPr>
          <p:spPr>
            <a:xfrm>
              <a:off x="108000" y="2278080"/>
              <a:ext cx="1439640" cy="7923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чни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6"/>
            <p:cNvSpPr/>
            <p:nvPr/>
          </p:nvSpPr>
          <p:spPr>
            <a:xfrm>
              <a:off x="7345440" y="2278080"/>
              <a:ext cx="1655640" cy="7923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лучател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>
              <a:off x="3421080" y="2133720"/>
              <a:ext cx="1871640" cy="1077840"/>
            </a:xfrm>
            <a:prstGeom prst="rightArrow">
              <a:avLst>
                <a:gd name="adj1" fmla="val 50000"/>
                <a:gd name="adj2" fmla="val 43412"/>
              </a:avLst>
            </a:prstGeom>
            <a:solidFill>
              <a:srgbClr val="66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cc00"/>
                  </a:solidFill>
                  <a:latin typeface="Times New Roman"/>
                </a:rPr>
                <a:t>Канал связ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8"/>
            <p:cNvSpPr/>
            <p:nvPr/>
          </p:nvSpPr>
          <p:spPr>
            <a:xfrm>
              <a:off x="1908000" y="2278080"/>
              <a:ext cx="1441440" cy="792360"/>
            </a:xfrm>
            <a:prstGeom prst="rect">
              <a:avLst/>
            </a:prstGeom>
            <a:solidFill>
              <a:srgbClr val="ca9f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Кодирующе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стройств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9"/>
            <p:cNvSpPr/>
            <p:nvPr/>
          </p:nvSpPr>
          <p:spPr>
            <a:xfrm>
              <a:off x="5365800" y="2278080"/>
              <a:ext cx="1655640" cy="792360"/>
            </a:xfrm>
            <a:prstGeom prst="rect">
              <a:avLst/>
            </a:prstGeom>
            <a:solidFill>
              <a:srgbClr val="ca9f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Декодирующе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стройств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AutoShape 10"/>
            <p:cNvSpPr/>
            <p:nvPr/>
          </p:nvSpPr>
          <p:spPr>
            <a:xfrm>
              <a:off x="1620720" y="2421000"/>
              <a:ext cx="216000" cy="5050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11"/>
            <p:cNvSpPr/>
            <p:nvPr/>
          </p:nvSpPr>
          <p:spPr>
            <a:xfrm>
              <a:off x="7093080" y="2421000"/>
              <a:ext cx="215640" cy="5050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Text Box 13"/>
          <p:cNvSpPr/>
          <p:nvPr/>
        </p:nvSpPr>
        <p:spPr>
          <a:xfrm>
            <a:off x="1116000" y="177336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хема передачи информ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Хранение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ловеческий разум является совершенным инструментом познания окружающего мира. А память человека – великолепным устройством для хранения ин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ако для долговременного хранения информации, ее накопления и передачи из поколения в поколение необходимо иметь возможность ее хранить не только в памяти  человека. Для этого используются носители информа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j0196400"/>
          <p:cNvPicPr/>
          <p:nvPr/>
        </p:nvPicPr>
        <p:blipFill>
          <a:blip r:embed="rId1"/>
          <a:stretch/>
        </p:blipFill>
        <p:spPr>
          <a:xfrm>
            <a:off x="7448400" y="504504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Хранение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оситель информ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материальный объект, предназначенный для хранения и передачи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420000"/>
                </a:solidFill>
                <a:latin typeface="Times New Roman"/>
              </a:rPr>
              <a:t>Материальная природа носителей информации может быть различной: молекулы ДНК, которые хранят генетическую информацию; бумага, на которой хранятся тексты и изображения; магнитная лента, на которой хранится звуковая информация; фото- и кинопленки, на которых хранится графическая информация; микросхемы памяти, магнитные и лазерные диски, на которых хранятся программы и данные в компьютере, и так далее.</a:t>
            </a: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оиск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о сохранить информацию недостаточно. Нужно уметь ею пользоваться. А для того чтобы воспользоваться нужной информацией в нужный момент необходимо уметь ее быстро най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лупа"/>
          <p:cNvPicPr/>
          <p:nvPr/>
        </p:nvPicPr>
        <p:blipFill>
          <a:blip r:embed="rId1"/>
          <a:stretch/>
        </p:blipFill>
        <p:spPr>
          <a:xfrm>
            <a:off x="6576840" y="4365720"/>
            <a:ext cx="2260800" cy="249228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лупа"/>
          <p:cNvPicPr/>
          <p:nvPr/>
        </p:nvPicPr>
        <p:blipFill>
          <a:blip r:embed="rId1"/>
          <a:stretch/>
        </p:blipFill>
        <p:spPr>
          <a:xfrm>
            <a:off x="6576840" y="4365720"/>
            <a:ext cx="2260800" cy="24922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оиск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Поиск информаци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— это извлечение хранимой информац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уществуют ручной и автоматизированный методы поиска информации в хранилища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етоды поиска информаци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посредственное наблюдение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щение со специалистами по интересующему вас вопросу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тение соответствующей литературы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смотр теле-, видеопрограмм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слушивание радиопередач и аудиокассет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бота в библиотеках, архивах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прос к информационным системам, базам и банкам компьютерных данных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ругие метод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Защит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жизни человека информация играет очень важную роль. От нее зависит принятие решений, влияющих на развитие обще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предотвращения потери информации разрабатываются различные механизмы ее защиты, которые используются на всех этапах работы с н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4" descr="замок"/>
          <p:cNvPicPr/>
          <p:nvPr/>
        </p:nvPicPr>
        <p:blipFill>
          <a:blip r:embed="rId1"/>
          <a:stretch/>
        </p:blipFill>
        <p:spPr>
          <a:xfrm>
            <a:off x="7032600" y="5013360"/>
            <a:ext cx="1560600" cy="184464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Защит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защиты информации используют различные способ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троль доступ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граничение доступ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блирование каналов связ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иптографическое преобразование информации с помощью шифр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Защит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Шифр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ют секретный код преобразования информации с целью ее защиты от незаконный пользова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етением и использованием шифров занимается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риптограф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8067600" y="5491080"/>
            <a:ext cx="1076400" cy="136692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Информационная деятельность человек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бор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работка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ередача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Хранение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иск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щита информаци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бор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я деятельность человека связана с различными действиями с информацией, и помогают ему в этом разнообразные технические устрой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j0300840"/>
          <p:cNvPicPr/>
          <p:nvPr/>
        </p:nvPicPr>
        <p:blipFill>
          <a:blip r:embed="rId1"/>
          <a:stretch/>
        </p:blipFill>
        <p:spPr>
          <a:xfrm>
            <a:off x="3924360" y="4365720"/>
            <a:ext cx="1814400" cy="1528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j0305257"/>
          <p:cNvPicPr/>
          <p:nvPr/>
        </p:nvPicPr>
        <p:blipFill>
          <a:blip r:embed="rId2"/>
          <a:stretch/>
        </p:blipFill>
        <p:spPr>
          <a:xfrm>
            <a:off x="1403280" y="422100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термометр"/>
          <p:cNvPicPr/>
          <p:nvPr/>
        </p:nvPicPr>
        <p:blipFill>
          <a:blip r:embed="rId3"/>
          <a:stretch/>
        </p:blipFill>
        <p:spPr>
          <a:xfrm>
            <a:off x="7308720" y="3357720"/>
            <a:ext cx="1095480" cy="29527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опросы и зада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помогает людям получать информацию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думайте способ передачи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чему важно защищать информацию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способы защиты вы знает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думайте шифр и зашифруйте фразу «Я учу информатику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WordArt 4"/>
          <p:cNvSpPr txBox="1"/>
          <p:nvPr/>
        </p:nvSpPr>
        <p:spPr>
          <a:xfrm>
            <a:off x="8101080" y="981000"/>
            <a:ext cx="6159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1681"/>
          <p:cNvPicPr/>
          <p:nvPr/>
        </p:nvPicPr>
        <p:blipFill>
          <a:blip r:embed="rId1"/>
          <a:stretch/>
        </p:blipFill>
        <p:spPr>
          <a:xfrm>
            <a:off x="468360" y="584280"/>
            <a:ext cx="8207280" cy="61578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бор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е научное знание начинается тогда, когда мы можем оценить полученную информацию, сравнить ее, а значит измерить. Поэтому для получения недоступной обычным органам чувств информации широко используются специальные технические устрой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j0234687"/>
          <p:cNvPicPr/>
          <p:nvPr/>
        </p:nvPicPr>
        <p:blipFill>
          <a:blip r:embed="rId1"/>
          <a:stretch/>
        </p:blipFill>
        <p:spPr>
          <a:xfrm>
            <a:off x="6732720" y="5437080"/>
            <a:ext cx="2411280" cy="14209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бор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3" name="Picture 4" descr="2466"/>
          <p:cNvPicPr/>
          <p:nvPr/>
        </p:nvPicPr>
        <p:blipFill>
          <a:blip r:embed="rId1"/>
          <a:stretch/>
        </p:blipFill>
        <p:spPr>
          <a:xfrm>
            <a:off x="179280" y="625320"/>
            <a:ext cx="8820360" cy="56833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бор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91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о из древних сооружени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уемых для получения астрономической информации, находится в Англии недалеко от города Солсбери. Эт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оунхендж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«висячие камни». Он был построен примерно в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ке до н.э. С помощью новейшим методов исследования было установлено, что каменные арки дают направления на крайние положения Солнца и Луны, а 56 белых лунок помогают предсказать время Солнечный и Лунных затм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2466"/>
          <p:cNvPicPr/>
          <p:nvPr/>
        </p:nvPicPr>
        <p:blipFill>
          <a:blip r:embed="rId1"/>
          <a:stretch/>
        </p:blipFill>
        <p:spPr>
          <a:xfrm>
            <a:off x="6156360" y="549360"/>
            <a:ext cx="2698560" cy="17398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бработк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обретая жизненный опыт, наблюдая мир вокруг себя, иначе говоря – накапливая все больше и больше информации, человек учится делать выво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древности говорили, что человек познает мир с помощью органов чувств и осмысливает познанное разум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j0299125"/>
          <p:cNvPicPr/>
          <p:nvPr/>
        </p:nvPicPr>
        <p:blipFill>
          <a:blip r:embed="rId1"/>
          <a:stretch/>
        </p:blipFill>
        <p:spPr>
          <a:xfrm>
            <a:off x="7812000" y="2637000"/>
            <a:ext cx="1100160" cy="1804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бработк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1041480" y="1773360"/>
            <a:ext cx="7130880" cy="1501560"/>
            <a:chOff x="1041480" y="1773360"/>
            <a:chExt cx="7130880" cy="1501560"/>
          </a:xfrm>
        </p:grpSpPr>
        <p:sp>
          <p:nvSpPr>
            <p:cNvPr id="136" name="Rectangle 4"/>
            <p:cNvSpPr/>
            <p:nvPr/>
          </p:nvSpPr>
          <p:spPr>
            <a:xfrm>
              <a:off x="1041480" y="1916280"/>
              <a:ext cx="1441440" cy="8650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ход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информац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6730920" y="1916280"/>
              <a:ext cx="1441440" cy="8650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ыход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информац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6"/>
            <p:cNvSpPr/>
            <p:nvPr/>
          </p:nvSpPr>
          <p:spPr>
            <a:xfrm>
              <a:off x="2770200" y="2205000"/>
              <a:ext cx="792000" cy="216000"/>
            </a:xfrm>
            <a:prstGeom prst="rightArrow">
              <a:avLst>
                <a:gd name="adj1" fmla="val 50000"/>
                <a:gd name="adj2" fmla="val 91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AutoShape 7"/>
            <p:cNvSpPr/>
            <p:nvPr/>
          </p:nvSpPr>
          <p:spPr>
            <a:xfrm>
              <a:off x="5649840" y="2205000"/>
              <a:ext cx="792360" cy="216000"/>
            </a:xfrm>
            <a:prstGeom prst="rightArrow">
              <a:avLst>
                <a:gd name="adj1" fmla="val 50000"/>
                <a:gd name="adj2" fmla="val 91708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Picture 8" descr="j0292020"/>
            <p:cNvPicPr/>
            <p:nvPr/>
          </p:nvPicPr>
          <p:blipFill>
            <a:blip r:embed="rId1"/>
            <a:stretch/>
          </p:blipFill>
          <p:spPr>
            <a:xfrm>
              <a:off x="3849840" y="1773360"/>
              <a:ext cx="1582560" cy="150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 Box 10"/>
          <p:cNvSpPr/>
          <p:nvPr/>
        </p:nvSpPr>
        <p:spPr>
          <a:xfrm>
            <a:off x="755640" y="3284640"/>
            <a:ext cx="77770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ходная информ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информация, которую получает человек или устрой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ыходная информ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информация, которая получается после обработки человеком или устройств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ередач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человека не было бы возможно без обмена информаци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давних времен люди из поколения в поколение передавали свои знания, извещали об опасности или передавали важную и срочную информацию, обменивались сведения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j0300520"/>
          <p:cNvPicPr/>
          <p:nvPr/>
        </p:nvPicPr>
        <p:blipFill>
          <a:blip r:embed="rId1"/>
          <a:stretch/>
        </p:blipFill>
        <p:spPr>
          <a:xfrm>
            <a:off x="7380360" y="5340240"/>
            <a:ext cx="1763640" cy="1517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0" y="5364000"/>
            <a:ext cx="1908000" cy="1494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2:52:04Z</dcterms:created>
  <dc:creator>bas</dc:creator>
  <dc:description/>
  <dc:language>en-US</dc:language>
  <cp:lastModifiedBy>LEGION</cp:lastModifiedBy>
  <dcterms:modified xsi:type="dcterms:W3CDTF">2015-07-01T12:08:28Z</dcterms:modified>
  <cp:revision>21</cp:revision>
  <dc:subject/>
  <dc:title>Информационная деятельность человека</dc:title>
</cp:coreProperties>
</file>